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3DD-097E-46B4-AA79-0DD9E0BF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8BA-191D-4749-B4BD-EA27FC1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385A5-B839-4301-AD57-7EE39D3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18016-D38E-4BA6-85AE-1E872A23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169CE-4788-4946-B1CB-4C8CFAD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E9E93-CB35-4FC8-8DE3-8663259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0D9E4-B55D-4FF7-89DD-4560906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719A0-7354-4DFB-B893-9EED5C8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82060-F7A5-4F1C-A35B-6284D29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5D442-26C1-4C82-91E0-992C4368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E2851-93F8-427B-8A0C-E716109D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69679-38A0-4E7C-A2C8-A7F43966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7F0-1F1C-42D6-8126-76144C3E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7B34E-AB46-4C65-A68B-5D4373D5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AB4CB-7AD6-403D-9660-19C7717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80415-72A7-44F7-A250-01750930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74C07-57E0-460D-BF4D-458E11D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C1943-B768-49E4-9DD2-77AA02D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04F9-BA82-414D-8918-E315E56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C3D42-B8F1-4C38-85FA-4913CF2F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38AFF-EA08-43D9-B531-BF1991E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6906C-E361-486E-85C7-01F08100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FEB37-D7E8-4715-A9D8-4FD8013F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245-C4AD-4FB7-ADDB-C3A11ECD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D2D7A-DC1F-4236-84FC-44F6E7CC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224ED-9D60-4307-A5E7-9F7A7FCC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AB528-E14C-44EE-A58A-C6081DAD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F7ED9-D34D-4361-9A7C-BA092500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BE8F6-CE44-469D-9D0B-5364868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BD93E-8AA2-448E-ACCF-6568FCC1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DE4A9-7117-4E65-8246-360F697B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8725C-480F-47F4-ACC5-2972CB7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A146C-DF90-4A09-AADF-9A5E6DD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7A0F-7D6B-477D-8F45-1FFD326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87FD-A047-4874-BEF6-EDA1F49D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108EB-85AB-4E67-BFEF-948D749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EF26F-ACAD-4CCA-A1E8-BA01BEC8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125DB-75FD-456D-91AA-7A1272C0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1F740-129C-46B4-9D6F-CDEC98FF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F1119-0AF6-48CA-97CE-71A5A7D6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9E472-6517-4826-9D3E-E7B263E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E869-F22F-4AFB-8F51-3156A48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88951-3347-41E9-BB3F-DE5A8E4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DDB97-2D85-4B91-BF26-9E7C0B2E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52CD2-8C7E-4602-8797-8578632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940-6CDE-4B96-ACCE-A1DABBB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064D5-7DAA-4D6C-AD56-68D7DDB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006F7-C1B4-4925-91E7-04D6139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03D57-C23E-4B7A-A0A0-5336162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A2EAD-5299-4387-A6FA-D3B29673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7711E-0C0C-4C48-A623-F710D2E6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BC0A1-8D00-4A58-91CD-6884D82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C74D7-91C4-4204-BE6F-B2E7D00A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4CE6B-A667-48AA-8789-61D6332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842A3-125C-4A53-874F-7E8C6587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23CDD-C111-4FD5-8146-FB5D4BED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520D-36E4-4360-AA57-D2EFFA4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2BD0D-CE41-44FB-95A7-FC807C3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B32F6-855B-473F-AFA6-2DE2147F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5DD63-9B9E-4A62-A305-82636F1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7C493-D0BA-4E6B-9FD1-39F1FA0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637D2-60AE-49C4-B4BB-6D1862C2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BCCEC-49F3-426E-B887-941A8171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3F8F5-CBA2-4619-8775-445936AA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656E7-74C6-4EBB-91AA-99DA115E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B986F-F5F7-4253-8C29-AAEDF7F4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165B6-BA85-4F43-863D-18D6C57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405-B958-4370-8394-E51C685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F207C-9D97-47D8-AEC3-78EC8A5E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00C0A-86BB-4F35-9F29-C28207A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1393C-FB82-4444-AD44-B77DD4FA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166B7-DAB6-4D95-B56E-285BF4F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EB311-B544-433C-BC20-2BD5AAB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0FCD2-AC9B-4356-B6BA-1B99D68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D974D-9EE7-4DB7-AC95-BC9B1699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F8327-5AFB-4023-A045-6370948F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651FB-3B67-41A3-9A9E-91F78AED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F753D-F97E-4438-8E42-EA4CC3EB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CB5C-3C2B-40DB-88D5-07E6264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48EEC-3D05-47FA-BAA7-9D17639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D36F7-464A-4064-B1BF-50F849D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84B0E-2052-4C24-AB14-0979FEB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06740-32B4-4438-830E-0774BAD2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6B2E2-506C-43F9-8C1F-DC05E6D7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88071-B672-443A-A8D4-2B122E1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CF303-AFF2-43E5-B0FE-B258FD9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1966E-3AE1-415D-A727-C7D97D8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21146-8239-4646-B3C7-7B1F560B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57DCF-A6E1-447A-A420-D0A34D1A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ED1C-49D9-4E50-AD2A-4281CB8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7BC00-1A4A-4D30-AEC2-1066B4FD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3539E-82DC-4816-845F-D0FDBDEE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05F77-9765-4B6E-8D17-7910071C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D4E7B-D1AD-4904-9202-0612B729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4D4C2-21C6-4B10-A9D2-B9F9816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6F9D4-07A6-4EFD-9049-4F895BD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FB55F-1BB8-4444-B5EA-F3F160CF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E7C13-424A-44D9-9E43-56477F3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46C91-54B8-466E-9DAD-E676D0E5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D9E1D-F5DA-4242-999C-93C20E9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FB1B-5857-4D39-A9A4-A746E58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14FD5-AA50-4F69-9520-5D0E0E9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A27D7-7C68-4551-9942-A964DF85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5489D-729E-4612-8AB4-5B414FDC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2DEA9-28B1-4044-9ACD-F2AFAE7C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058F0-FE65-4313-B0FF-5A9AAAF1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A68D6-5DE0-427C-AAAE-609385FD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0C261-D77A-47BD-B7B9-CD4392F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0D32F-563A-44CE-9AB1-2285609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19E55-1F8E-42DD-9927-47BCF232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4853B-0778-4133-ABD3-D72EBDE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179-321F-4DBB-B8A6-144C5C89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D489-E8E5-4936-A692-333E9F31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5985F-EE0D-4F06-BF96-3995997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488A4-8824-4020-8078-B30178E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93E89-FB81-4C2B-9C7F-2448EE7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8132A-5249-4751-9971-6FBE77D0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84E96-6A43-4861-BF79-3FBB972D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7BAFA-B44C-4F8C-B22A-4BA03F5D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D6760-7D2B-498E-B70C-97CCADA7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BB1DF-4B38-4535-86A7-31AD62BC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C2BB1-D5D9-4168-8788-47FE6101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6A136-5589-4F29-BFB2-EB73608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9AC4-FB85-4409-A6F9-C8C9BA6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C0150-FA51-403D-8337-15780B3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6144C-DAD9-4805-B19F-083DDA5C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36AD6-DE20-44F2-8CED-3488071B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3DF57-1C05-4735-9691-2A92EC5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C309B-E7AB-451F-B491-3A91BCF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03819-3A47-4E88-A687-E1051F61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D2E59-BA84-4BA7-93B4-608EAB92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F4D76-296B-400C-8DB5-D0D42D8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40509-1608-4CF1-AD8C-C098B8D2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2469E-2204-4C23-A34F-3684BAB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A38-6AB8-4597-BE12-9EE21AE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405E8-2E86-4E9B-8C29-A180ABF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B0E3F-E918-4400-85CE-74F015B8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70AA6-7D78-4099-9940-CD793FF6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704EB-46FA-48CF-A7B6-D7CAA762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B5F45-6D6C-49E9-A1C2-C463821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FBF08-CE31-4794-B845-7E69C5A5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C968A-4162-4062-B1AB-8BAE90C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5C86C-4826-49FD-83F0-B50B7764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E893D-49A0-4876-A186-FD611E59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14767-7AEF-4F05-98F3-BAC9D088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BE4A-45FD-4134-BB45-48C8C874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F6164-3F5B-4AEC-9D90-FD36E1CB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89E3B-FE18-4934-B156-5913928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32E89-4D6F-425D-BB0D-E7204E16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C7D1B-D5E0-45C5-ABDA-D920D25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EE9C3-F80A-45F4-AB0C-6A045AE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3D669-F82C-4CA8-8610-5A38527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404C8-1800-4501-A4F8-5665C6C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4A7FD-6245-47EF-B509-335CE69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1DD74-1F3E-4956-8E29-AA510F8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61062-2653-47A2-A93C-D93A9EB4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1390-8F22-4169-A43B-58AAECB1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D5EC3-B01E-46A2-B7D1-2B047E6B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FD11A-644F-4EEE-B056-B645D79F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18DBB-6AE4-44D9-9BA7-C3D3BC51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46C9A-21BC-4699-A987-E426A37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F453F-ECA0-4342-9B5F-6D38401E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F2FD8-607C-4423-A138-C6B680E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37FC8-DD4A-4250-8327-54108EC6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ADC88-F894-47D5-97AD-5B2756C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47EBC-977C-4280-9315-BBADFE16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0FC5F-F3C4-49A4-ABFA-F76EA2F3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F231-D47A-4A22-AE07-E3F45FAF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7844C-F16B-4423-9DA6-C90E71BF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6FDD4-AEE0-4771-9425-218B89C4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59864E-35E8-455F-A63B-6CF5A7A4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DA1A-1EDA-4D68-A041-F2376617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82B9-4EC0-4981-9C12-A1E14D5C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62A3-8658-4209-9753-BE03BE7A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D74F-B096-49C2-A9C6-AF354DA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5AD-2082-4C91-8206-68B569E4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5BD8-62BF-472D-9D4E-9846674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7C9A-F065-4318-9E69-9130BB2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51BA-B307-4B5F-9AD9-FDC6E75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5678-E34D-412B-AA38-C4095EB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3B99-D3CF-449F-9E0E-9811600B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A26C-E653-4874-91DE-3FA5ED7A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10E6-39D5-4A67-9C7D-E91CB698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5197-F5F0-4ED9-A9AF-E23C6159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D292-2E93-4DBB-AAF4-F73A5954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831D-D406-4B8A-9003-AFD8A6E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745-7C83-4238-BD0F-DC42D3A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DD3F-E3D7-4393-AEBA-FAF10D31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83C5-F92A-44DA-AD07-074EB06C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1AD3-B2D0-4E9B-B947-2DA855E3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AB47D-F47B-42AC-8A8A-8CD1325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71A6-26A6-440F-8843-5F64289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EB95-D78C-4B5C-A2B0-0B37C2B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9BF9-2A51-4FA1-AD89-87CA01B9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A15E-8024-4256-86C2-151183D5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11E78-37BA-4B1A-9585-45E2A3DF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76AA-7F01-4CB7-83BA-8D834636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D90-08D8-4272-818A-5C34096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D957-39DB-48EC-A554-6403ECC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8BEE2-979D-4B6B-8EB7-E2A9ABF0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255B-68DF-4D10-BC51-737AF91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C5C24-4679-44E3-9C2C-03B16935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BAE4-214C-4255-A988-8D7523A1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C736-0916-4BD0-9467-743148F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EA1CA-19CE-4BF1-BCA1-6E0FAC0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4428D-6592-4969-91FC-AF5E794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9348-4E5C-4946-B341-7307103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D3092-65A4-45A3-B8D9-54855652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401-4680-427D-B543-809A593D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BA8F-B1D2-4C83-A7CE-A3BC883E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BC4FC-96FF-476A-BE31-6BD31A4B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8243-F26A-4C67-A765-EFAA537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AF3FA-FFF9-44E2-BF4C-69862125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44476-C88C-40D0-9116-4CD8258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D7DD-4B55-4D0E-B5D5-C28BDE5C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75DA-D9D7-42D6-AC3E-6B63EE4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A7A7-7A80-4364-80FA-48AEC97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12A5-2D95-4433-A0F3-298FCB9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4BAA-B4CA-48BD-A5B0-0D850AA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4B3-CC06-4479-9190-17B9DD45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0D42D-C83A-48E9-A768-3D97BC6D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1B4D6-CFF3-4F81-9B8A-9A16DB6B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4B2C-4451-4A2C-B2E3-E5EFBD7C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CAA6B-1023-4081-811C-34B89B68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1FF7-84CE-4B84-BD31-0422228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CEEDB-6895-423A-95BE-2CF7BA42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7058-4287-4037-912B-5E39167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7E08-D074-4861-B2A5-6F34483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3955-4A5F-442D-9BE5-F07CB2F3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D6C8-2542-45E0-AE94-D67A4FA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EDE-2C84-40F0-800C-827CF4BF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79B6-F2BD-41B4-B398-7B151043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769A-ECD2-4A14-9CCE-63C698A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DD6E-69EB-4E1D-8C31-5C091E9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9E686-F492-453D-BE31-436B39D4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C07DB-C56F-4855-964B-F153633E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1D1D-B26D-4886-9A44-26C21317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FC6A-5815-48FE-B193-76261C5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2A53-F6D5-4203-A4B9-7D7F9256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9590-9A5A-4CB9-B865-1C6B143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B6F9-BEC8-4A46-B7B5-C90407B6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F34-8DB2-44BF-9F83-CA34B34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AE275-9010-419A-8799-31555870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EF566-6332-41C4-AFC9-32229114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962BD-2A44-4638-BBE6-A76EB69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90F97-A391-417A-96B8-BDDB07F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88005-B07E-4417-BD56-0A4DDCF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5418-875E-454F-8304-F35ACB50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DB64-CB48-4BA7-A349-BA800BEF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3C087-82AA-4B5F-A3B1-CA952938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6499-59A2-44DE-A405-720DB1A6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0802-4A99-4884-ADA6-335F272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C2B-A494-4507-8F03-4E4718E283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AFFC-42A1-41D5-9B28-EC9E6E7278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CD3-AEA7-478F-BBFD-BBEB89E25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6A1E-F0F9-464A-B417-5ED16F22C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EC0F-4B71-43E6-88C9-A438BD10E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3DE0-5150-4E2C-9146-D07D3CB766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5995-A58B-429F-9BC3-AA67D0F600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53DD-3F9B-4605-87E4-D167988242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C6BD-85B1-4705-8752-D340A5869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BA99-C403-45CE-8FFD-35909DB8A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DFEB-FA21-48F7-97E4-16823AB35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49D4-A7E2-42EE-8FE1-E524B8E6F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9BB9-AC72-409C-A2C8-AAECB95E2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2F1-C9B0-4033-98FC-5AE35374E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CD99-8046-4ACA-BB69-4AE253AA7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8A04-675B-46F0-BA66-5366917EF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D9E-463D-408E-A805-4C48FC327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EB6-4A06-4FCF-BDD6-141598F915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C27-7A4F-45F4-93BF-C85F820AF7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7D65-DC3F-4C04-B201-33903BEBC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2FA-43AF-4C5C-AC08-50A3F59AD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2D27-5B04-46D8-AA59-D32CC3AF9A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D9B9-08F8-43F0-A25A-4A4520A2CA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039-12B7-4EE0-957A-83B8FF232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555-34CE-493E-AC2E-08410078A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4CB-AE2B-4A7F-98D9-C8A7B3AC0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8A25-6DB7-4475-A6BE-C6963E644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9FC6-7AE8-4CE5-B82C-6DD717B703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E28-0BD0-443B-B5AF-A103D20FE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1EF-6733-45A2-A34D-886D23F44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A44D-1C60-4DBA-A34A-68BA2841E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9141-5761-4089-92CC-1EAF09F9F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DF3-28DF-4315-8685-F49C86F0BC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528C-9766-41E0-95E6-EC5F3AF79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37BF-F8D0-4D16-9094-F75D16827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F692-7585-4670-A931-41AA33FC3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8F0-E771-4462-822D-FBE2DF775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C73-74FA-4EEC-B587-0FE288B09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5BA0-BFAF-421E-9806-113B6F450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956-2D59-4C65-B7D8-74BBACE5F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33360" y="1413000"/>
            <a:ext cx="6677280" cy="1323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238560" y="2933640"/>
            <a:ext cx="2666880" cy="9907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1671480" y="4365720"/>
            <a:ext cx="58010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247680" y="966960"/>
            <a:ext cx="8648640" cy="49240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1403280" y="495612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384800" y="3357720"/>
            <a:ext cx="93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211640" y="43797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6242040" y="33577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7740720" y="373068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732720" y="5243400"/>
            <a:ext cx="93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585720" y="1933560"/>
            <a:ext cx="7972560" cy="2990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258920" y="278136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1835280" y="432108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5508720" y="4321080"/>
            <a:ext cx="1150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309600" y="971640"/>
            <a:ext cx="8524800" cy="49147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5300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1219320" y="1843200"/>
            <a:ext cx="6705360" cy="3171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140360" y="432108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57040" y="819000"/>
            <a:ext cx="8629920" cy="5220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916360" y="329868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554200" y="393372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4284720" y="472428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1216080" y="5459400"/>
            <a:ext cx="1079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04840" y="971640"/>
            <a:ext cx="8734320" cy="4914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49672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49672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68360" y="5027760"/>
            <a:ext cx="4967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100080" y="919080"/>
            <a:ext cx="8943840" cy="553428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4278" descr=""/>
          <p:cNvPicPr/>
          <p:nvPr/>
        </p:nvPicPr>
        <p:blipFill>
          <a:blip r:embed="rId2"/>
          <a:stretch/>
        </p:blipFill>
        <p:spPr>
          <a:xfrm>
            <a:off x="500040" y="2595600"/>
            <a:ext cx="7629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37960" y="588960"/>
            <a:ext cx="8668080" cy="61531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826920" y="387504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755640" y="4667400"/>
            <a:ext cx="38894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544500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11280" y="6194520"/>
            <a:ext cx="453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0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